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4E09-B7F9-4245-B6E0-EFCAA2D8E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571B-2AF0-47AA-8545-BF7A63BC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ED3B-953C-4440-ACE4-8D4C0F7BA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DC99-C25B-4E4D-9F6A-956F74F2C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4D67-5810-44DA-AB74-C4AB113A1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ACDCC-BDBA-4711-9078-2FCE5432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9D724-605B-47A4-85C2-A797A850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C624-3DC5-406C-A3BF-478E9220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44FA-6692-40BC-94E7-F5415B43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0D97-87C4-41F2-BA25-8FD59099D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A318-C417-4D64-82C2-CC521185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B66F-BCFC-473B-BBDB-9C266E0E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0D72-8941-4AFF-9D5A-BBA44F01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9C7E-E388-47FE-9912-E1CD5E605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646D-7253-42DD-9C05-C8E7B3FED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FD666-4076-4AAB-8CBC-032BE2900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D5860-19E9-45C2-85CD-C79A1E1AF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47FC-B6BE-499C-8BA7-566461CF7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0726-D43B-4639-A4A1-FD66353E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4957-3476-4FC5-A4F1-14AF0DAE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93D6-8470-4A67-AC43-59D5032C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EF0C-ABA0-4161-97F4-18F51FF1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1A8D-DD58-4410-A078-5645B969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8DEE-03A7-4A81-B9CE-DBA34759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D861-AA0D-4FCE-8110-01440C5D55A4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3270-C0FD-42F3-AD5D-6C22FEB5202A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43768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ar Martac Drago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58672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mic Sans MS"/>
              </a:rPr>
              <a:t>À partir de 1860, les progrès dans la connaissance des phénomènes électriques et l'intérêt suscité par le télégraphe font resurgir le vieux rêve de l'humanité : se parler à distance.  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mic Sans MS"/>
              </a:rPr>
              <a:t>Lorsque l'Ecossais Alexander Graham Bell a inventé le  premier téléphone en 1876, c'était une révolution dans la communication  humaine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55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ffffff"/>
                </a:solidFill>
                <a:latin typeface="Comic Sans MS"/>
              </a:rPr>
              <a:t>Puis, au cours des deux dernières décennies, un nouveau moyen de communication est apparu: le téléphone portable qui a évolué 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de façon  spectaculaire</a:t>
            </a:r>
            <a:r>
              <a:rPr b="0" lang="fr-FR" sz="2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6" name="Picture 4" descr="http://www.centraphone.fr/images/telephone_02.jpg"/>
          <p:cNvPicPr/>
          <p:nvPr/>
        </p:nvPicPr>
        <p:blipFill>
          <a:blip r:embed="rId2"/>
          <a:stretch/>
        </p:blipFill>
        <p:spPr>
          <a:xfrm>
            <a:off x="6705720" y="1523880"/>
            <a:ext cx="1682640" cy="1447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http://www.centraphone.fr/images/telephone_03.gif"/>
          <p:cNvPicPr/>
          <p:nvPr/>
        </p:nvPicPr>
        <p:blipFill>
          <a:blip r:embed="rId3"/>
          <a:stretch/>
        </p:blipFill>
        <p:spPr>
          <a:xfrm>
            <a:off x="6781680" y="2971800"/>
            <a:ext cx="1676520" cy="1832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http://www.centraphone.fr/images/telephone_04.gif"/>
          <p:cNvPicPr/>
          <p:nvPr/>
        </p:nvPicPr>
        <p:blipFill>
          <a:blip r:embed="rId4"/>
          <a:stretch/>
        </p:blipFill>
        <p:spPr>
          <a:xfrm>
            <a:off x="6934320" y="4857840"/>
            <a:ext cx="1447560" cy="2000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6840" y="1599840"/>
            <a:ext cx="487692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De la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réation de l'ENIAC (1947 ) le premier ordinateur  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 par P. Eckert et J. Mauchly, l’ordinateur  ont évolué de façon spectaculaire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L'ordinateur, un nom donné en 1955 par J.Perret, est une machine à traiter les données. (l'information)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Grâce à l'évolution de l’ordinateur aujordhui on peut avoir des informations dans tous les domaines tr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è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 rapidement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’est l’internet qui nous facilite l’acc</a:t>
            </a: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ès rapide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à l’information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1" name="Picture 4" descr="http://histoire.info.online.fr/images/mm1.jpeg"/>
          <p:cNvPicPr/>
          <p:nvPr/>
        </p:nvPicPr>
        <p:blipFill>
          <a:blip r:embed="rId2"/>
          <a:stretch/>
        </p:blipFill>
        <p:spPr>
          <a:xfrm>
            <a:off x="5943600" y="1295280"/>
            <a:ext cx="2286000" cy="1689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http://www.kevinha.fr/images/Apple/apple-lisa-2.jpg"/>
          <p:cNvPicPr/>
          <p:nvPr/>
        </p:nvPicPr>
        <p:blipFill>
          <a:blip r:embed="rId3"/>
          <a:stretch/>
        </p:blipFill>
        <p:spPr>
          <a:xfrm>
            <a:off x="5943600" y="2971800"/>
            <a:ext cx="2257560" cy="2114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http://images.apple.com/euro/imac/images/overview_new1_20110426.png"/>
          <p:cNvPicPr/>
          <p:nvPr/>
        </p:nvPicPr>
        <p:blipFill>
          <a:blip r:embed="rId4"/>
          <a:stretch/>
        </p:blipFill>
        <p:spPr>
          <a:xfrm>
            <a:off x="6019920" y="5102280"/>
            <a:ext cx="1904760" cy="1755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4114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Le 22 octobre 1879, un bricoleur de génie invente l'éclairage électrique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C’est Thomas Edison qui a inventé l'ampoule électrique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4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Comic Sans MS"/>
              </a:rPr>
              <a:t>Cette première lampe à incandescence dure pendant quarante heures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6" name="Picture 2" descr="http://www.herodote.net/Images/Edisonlampe.jpg"/>
          <p:cNvPicPr/>
          <p:nvPr/>
        </p:nvPicPr>
        <p:blipFill>
          <a:blip r:embed="rId2"/>
          <a:stretch/>
        </p:blipFill>
        <p:spPr>
          <a:xfrm>
            <a:off x="7696080" y="1676520"/>
            <a:ext cx="1067040" cy="28447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itle 1" descr=""/>
          <p:cNvPicPr/>
          <p:nvPr/>
        </p:nvPicPr>
        <p:blipFill>
          <a:blip r:embed="rId1"/>
          <a:stretch/>
        </p:blipFill>
        <p:spPr>
          <a:xfrm>
            <a:off x="-2657520" y="-1335240"/>
            <a:ext cx="14757480" cy="8382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6T15:50:35Z</dcterms:created>
  <dc:creator>Dragoss</dc:creator>
  <dc:description/>
  <dc:language>en-US</dc:language>
  <cp:lastModifiedBy>Dragoss</cp:lastModifiedBy>
  <dcterms:modified xsi:type="dcterms:W3CDTF">2012-05-06T20:34:52Z</dcterms:modified>
  <cp:revision>2</cp:revision>
  <dc:subject/>
  <dc:title>Inventions qui ont changé le monde</dc:title>
</cp:coreProperties>
</file>